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417-9843-4E9F-AA18-1C724716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0E9-C512-4C12-8A70-94D49717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DBF3-CB1D-4820-840C-2C6110B90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E7C-FEF6-4E41-B46D-02B3A917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9583-1996-4736-AB77-3B3D1912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B1A1-C7C9-4065-BA01-C570D8D0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93DB-F641-4FE1-A6A3-7B351CBA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0195-8DD2-437A-AC2F-1E38CD9A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D29-EDA1-41F4-9FD7-9239C989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DDB-7056-4921-8570-778A5A70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527-A733-4978-8492-82C7BB60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60D-BEBB-40F0-BC89-8854AA04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1A7F-B9BC-44C3-B4E3-08C51DB765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World progress 1970 - 201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5013000"/>
            <a:ext cx="8280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98989"/>
                </a:solidFill>
                <a:latin typeface="Calibri"/>
              </a:rPr>
              <a:t>NEW INTERNATIONALIST  EASIER ENGLISH IELTS / ADVANCED READY LESS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987640" y="31896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4280" y="233280"/>
            <a:ext cx="27910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67920"/>
            <a:ext cx="8291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about global issues and comparing simplified and original artic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discussing global issues – practice for the IELTS speaking ex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– practice interpreting graphs and writing 150 word summary for IELTS writing exa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 can we measure progres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4920" y="169992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discuss, then read and make notes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eewiki.newint.org/index.php/Measuring_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discuss again, then read the original articl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ttp://newint.org/features/2013/03/01/a-measure-of-progress-keynot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now compare the two articles and note down some new vocabul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7020000" y="4962600"/>
            <a:ext cx="1485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 graphs on the infographic on the next slide (or on the link below, with zoom feature) – and discuss what they show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4149720"/>
            <a:ext cx="829152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newint.org/features/2013/03/01/world-progress-the-facts-infographic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3360" y="271440"/>
            <a:ext cx="9047160" cy="63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57360"/>
            <a:ext cx="5410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choose one of the sections of the infographic and write (in pairs, or alone) a summary of what it shows – 150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032520" y="155736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6T12:06:45Z</dcterms:created>
  <dc:creator>Linda</dc:creator>
  <dc:description/>
  <dc:language>en-US</dc:language>
  <cp:lastModifiedBy>Linda Ruas</cp:lastModifiedBy>
  <dcterms:modified xsi:type="dcterms:W3CDTF">2013-08-01T16:00:02Z</dcterms:modified>
  <cp:revision>10</cp:revision>
  <dc:subject/>
  <dc:title>PowerPoint Presentation</dc:title>
</cp:coreProperties>
</file>